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013-6596-4EC8-832E-6BF33C39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D48-B45C-4910-9C59-1AF7D205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A3F-E860-4FC1-AA97-D8FA73CD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144-10D0-4E23-B369-EE7BB90C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2276-2BC5-41C6-A315-DDC2C55E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F873-061E-4083-8B6E-E16D3071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2084-B12C-4278-A980-D491AA4B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BD66-7D72-4B51-8B41-5827B29A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FE33-5919-4815-AEDA-D57E12C1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7A88-8C4F-43D7-B765-5E609F2A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4470-6B9A-4FEF-8D54-9FD8B9A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AA1-A453-48D2-A201-E2183BD0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D33E-39C3-4EB9-9B46-97326B82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34DD-57AE-433E-85D0-B29C5F0C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3EC8-FEE5-49C1-A598-14F20A80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1718-E62B-46F0-97FA-753B4282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056F-C7F6-4713-8BEE-004B6E8B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D7B3-EE8A-48E7-901E-368CBE48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D664-B686-446C-A95B-4AAC7C74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6782-4CB3-4B4B-9C57-A0AF6E3B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34A7-913C-471F-BA2A-A002107A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468C-16F5-4B84-A575-AF46A005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B20-144D-4957-A451-21E368BB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2CCF-3B96-44AC-A529-C95AB9D0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F1E5-4E93-425A-A3D9-82B04541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E4D2-CC02-4FF7-A1D3-F1D9FF0B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6253-A600-472B-B687-AD5779B3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910CF-672D-4FC0-B901-8D59688E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2721-1AED-4D0D-A192-0CCB9714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870C-9D8F-424D-A9C2-EBF9EF05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318-0671-49A6-9A58-F5D944C0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1C7-AAA8-4C58-83F0-7B18D2B9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EEC-59CF-478E-8251-F5A20A31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FC4-5CDA-4202-A373-C466FBB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58F-1987-424A-AD7A-A8FA79C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78A-C4F3-4C95-BEC3-9EF9E3E0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C4CA-1777-4E56-842E-9DDC20B274F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1AE1-270E-4DEC-A684-F54B32F61F5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B626-E38B-4C3A-917E-7889B30FBD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Guru_Mindmap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530280" y="1195560"/>
            <a:ext cx="7864560" cy="1157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854840" cy="33242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People can become creative if they give “ a kind of permission to be ourselves, to fantasy, to let loose, and to be crazy, privately. (Every new idea looks crazy at first)…. A creative person has a fusion of primary and secondary processes; both conscious and unconscious; both of deeper self and of conscious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(De Bono 197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0" y="533160"/>
            <a:ext cx="4114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Find conne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Use of lines, colours, arrows, and branches can be used to indicate relationships between the ideas generated the mind ma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Mind maps help organize the information, once all the ideas and visual information are on the page you can start finding further connections and start creating new ideas or imag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4186080" cy="3267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Example Mind Map"/>
          <p:cNvPicPr/>
          <p:nvPr/>
        </p:nvPicPr>
        <p:blipFill>
          <a:blip r:embed="rId3"/>
          <a:stretch/>
        </p:blipFill>
        <p:spPr>
          <a:xfrm>
            <a:off x="304920" y="3581280"/>
            <a:ext cx="4114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ere are some simple rules for mind mapping: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 just key words, or wherever possible im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Start from the center of the page and work ou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raw quickly on unlined paper without pausing, judging or edi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Make the  center  a clear and strong visual image that depicts the general theme of the ma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raw Primary Branches from the Central 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Create sub-centers for sub-the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Put key words </a:t>
            </a:r>
            <a:r>
              <a:rPr b="1" lang="en-CA" sz="2400" spc="-1" strike="noStrike">
                <a:solidFill>
                  <a:srgbClr val="000000"/>
                </a:solidFill>
                <a:latin typeface="Constantia"/>
              </a:rPr>
              <a:t>on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lines. This reinforces structure of no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egin secondary branches, adding additional lines and w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Print rather than write in script. It makes them more readable and memorab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 symbols, drawings, and colours to add life to your mind map. Use color to depict themes, associations and to make things stand out. Anything that </a:t>
            </a:r>
            <a:r>
              <a:rPr b="1" lang="en-CA" sz="2400" spc="-1" strike="noStrike">
                <a:solidFill>
                  <a:srgbClr val="000000"/>
                </a:solidFill>
                <a:latin typeface="Constantia"/>
              </a:rPr>
              <a:t>stands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nstantia"/>
              </a:rPr>
              <a:t>out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on the page will stand out in your mi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e bold in your use of colou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e bold in your th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 arrows, icons or other visual aids to show links between different element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on't get stuck in one area. If you dry up in one area go to another branch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Put ideas down as they occur, wherever they fit. Don't judge or hold bac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reak boundaries. If you run out of space, don't start a new sheet; paste more paper onto the map. (Break the 8x11 mentality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e creative. Creativity aids mem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Get involved. Have fu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47680" y="343080"/>
            <a:ext cx="8648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3416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ittle down the ideas generated to </a:t>
            </a: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8-10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good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Evaluate these ideas generated and compare each solution to the design criteria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refining and modifying as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o your ideas satisfy the requiremen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1" descr=""/>
          <p:cNvPicPr/>
          <p:nvPr/>
        </p:nvPicPr>
        <p:blipFill>
          <a:blip r:embed="rId2"/>
          <a:stretch/>
        </p:blipFill>
        <p:spPr>
          <a:xfrm>
            <a:off x="285840" y="1365120"/>
            <a:ext cx="8334360" cy="189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UMBNAIL SKETCH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CEPT DRAW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CK UPS AND PROTOTYP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LIMINARY  PLANS FOR CLIENT  TO REVIE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Thumbnail sketches and Prototype (artist statement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ry and choose </a:t>
            </a: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three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and develop it further, Create </a:t>
            </a: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3 thumbnail sketches of these desig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Get feedback from the client (or in this case the teac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On a 8x 10 sheet of Mayfair draw a proposal of your fantasy coffin with your artist state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Give a brief description of who your coffin is designed for, and explain why you believe the piece is a suitable representation of the person it’s intended f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The solutions (e.g., by testing, modelling, and documenting results), possible revisions, and then choosing the best o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metimes 3 ideas are presented to the client for their feedback which may result in further revis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e solution, using  one or more of the following: final drawings, technical reports, electronic presentations, flow charts, storyboards, mockups, prototypes, and so 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Communicate  these ideas to the cl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184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on the final solution and repeat the design process if necessary to refine or improve the so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dentify the Probl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at's the purpose of the projec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Information?  Entertainment?  Education? To attract attention? To create an image or identity? To  make life easier?  To beautify? To fix  a problem? To provide a service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at are the requirements or specification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Size, colour, dimensions, budget, quantity, material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en it is requir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Due dates? Cost restraints? Material constraints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o is the target audienc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Students?  General Public?  Parents?  Staff?  Age?  Male/Female?  Income? Level? Where do they live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y is it necess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Innovation? Upgrade? Variety?  For a mark in this course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5335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Define the problem, be specific. Try to capture it in one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ather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alk to your client</a:t>
            </a:r>
            <a:r>
              <a:rPr b="0" lang="en-CA" sz="2600" spc="-1" strike="noStrike">
                <a:solidFill>
                  <a:srgbClr val="ff0000"/>
                </a:solidFill>
                <a:latin typeface="Constantia"/>
              </a:rPr>
              <a:t>(in this case it may be yourself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Use information from researches that have gone before you. Do not copy but be inspired by other work done before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Gather reference material, models, samples and examp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Keep a file of inspirational mater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Record </a:t>
            </a:r>
            <a:r>
              <a:rPr b="1" lang="en-CA" sz="2600" spc="-1" strike="noStrike">
                <a:solidFill>
                  <a:srgbClr val="000000"/>
                </a:solidFill>
                <a:latin typeface="Constantia"/>
              </a:rPr>
              <a:t>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Establish a plan of procedures, look into the "state of the art" by examining other solutions on the web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A GENER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ainst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Create a list of lead questions (Use the 5 w’s + H agai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Lists of as many solutions as possible,  </a:t>
            </a: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quantity is des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Be spontaneous,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o not edit your self, record your ide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Withhold criticism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y suspending judgement, participants will feel free to generate unusual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Let your ideas lead you to other areas focus on extending or adding ideas, build on your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Welcome unusual ideas,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e wilder idea the bet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Combine and improve ideas-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good ideas may be combined to form a single better good idea 1+1=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 mind maps          Sketch on pap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Group brainstorming generates a large number of ideas for a solution of a problem </a:t>
            </a:r>
            <a:r>
              <a:rPr b="0" lang="en-CA" sz="1100" spc="-1" strike="noStrike">
                <a:solidFill>
                  <a:srgbClr val="000000"/>
                </a:solidFill>
                <a:latin typeface="Constantia"/>
              </a:rPr>
              <a:t>(developed in1930by Alex Osborn in Applied Imagination)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81080" y="757080"/>
            <a:ext cx="698184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d maps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(developed by Tony Buzan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800240" y="1920960"/>
            <a:ext cx="38862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nd ma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diagram used to represent words, ideas, tasks, or other items linked to and arranged radially around a central key word or idea. Mind maps are used to generate, visualize, structure, and classify ideas, and as an aid in study, organization, problem solving, decision making, and writ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0" name="Picture 2" descr="300px-Guru_Mind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60" y="2743200"/>
            <a:ext cx="4875120" cy="3429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51640" y="1905120"/>
            <a:ext cx="40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nother way of creat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ividual brainstor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419360" y="609480"/>
            <a:ext cx="4724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Structured graphic representation of words and ideas produced by brainstor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A person starts in the middle of the page with the main idea, and works out in all directions, producing a growing and organized web like structure composed of key words and im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Each idea becomes a centre of a new web ma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e mapping allows you to write down your ideas quicker than expressing them in words or phrases. Once the words and ideas flow there is a need to cluster or group th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45054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0:40:04Z</dcterms:created>
  <dc:creator>shayna</dc:creator>
  <dc:description/>
  <dc:language>en-US</dc:language>
  <cp:lastModifiedBy>OCDSB User</cp:lastModifiedBy>
  <dcterms:modified xsi:type="dcterms:W3CDTF">2011-09-26T14:28:35Z</dcterms:modified>
  <cp:revision>32</cp:revision>
  <dc:subject/>
  <dc:title>DESIGN PROCESS</dc:title>
</cp:coreProperties>
</file>